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B6B-232A-4977-A65B-3A020A68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274-0DF3-4EAD-9C6F-8CF9CF36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22B-F850-4719-B5D6-7CD28713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8FA-B3B9-4258-9DED-D3EF906E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522E-D0B2-4D8B-A63C-26EA34FF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4AC9-5579-4B02-BE1B-80A17439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203B-5A5F-4DBC-86BC-8AE3840D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6F98-5F3A-4ACC-8E6E-8800DBCF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9D39-9D32-472F-A57A-FA41D66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F5DB-E455-4B69-AA79-2688C43E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623-FF5B-4436-8D47-592A9E8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B24-54EA-4091-8B1E-734E3B20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B213-F2D1-49ED-8A81-C60D2C66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DEE1-4AB3-418E-AEC5-7629EDC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63B3-1DCD-496F-BE6C-6FF2149A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D9DF-C800-4A8B-94D6-4ED9FDED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C26A-1773-4AAF-9CE6-0D0C5181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B95-C49B-40E1-B941-939E5720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313-153D-4B96-8A35-F9C71C14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336-8B9D-47EB-A665-59864F4B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277-4D24-43C1-B3A8-96D7B3B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16D-0729-4619-8210-00D3EF28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3FA-D3B1-443C-A065-DFBAAAB2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E67-81F0-407A-AB01-9AD5563B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068F-9F69-400E-93AF-F72ADFE30DB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C4D9-54D4-4CAC-B36A-F525F9E673B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80360" y="4941720"/>
            <a:ext cx="9334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50760" y="1981080"/>
          <a:ext cx="7658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981080"/>
                    <a:ext cx="7658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"glavni shopping centar na Bliskom Istoku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7640" y="58244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92929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720" y="580536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92929"/>
                </a:solidFill>
                <a:latin typeface="Arial"/>
              </a:rPr>
              <a:t>BLISKI ISTO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5084640"/>
            <a:ext cx="1727280" cy="1368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5516640"/>
            <a:ext cx="936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  <a:effectLst>
            <a:outerShdw dist="153753" dir="2700000" blurRad="0" rotWithShape="0">
              <a:srgbClr val="99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BAI BUDUĆ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izlet u novi dio grada koji se smatra jednim od najbrže rastućih na svijetu: Palm Island – proglašen 8. svjetskim čudom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Dubai marina i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Emirates Hills – najljepši rezidencijalni dio grada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946080" cy="141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JANJE USRED PUSTI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Pet skijaških staza,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staza za snowboardere,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zabavni park za djecu,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Skijajte s pogledom na fascinantni hotel u obliku jedra Burj Al Arab i Arapski zaljev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N BATTUTA 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6 shopping centara u jednom, tematiziranih prema putovanjima poznatog arapskog istraživača iz 14. stoljeća, Ibn Battut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Arhitektonski stilovi centra odražavaju najutjecajnija mjesta koja je Ibn Battuta posjetio u Kini, Indiji, Perziji, Egiptu, Tunisu i Andaluziji. Svaki je dio izgrađen u duhu zemlje koju predstavlja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093080" y="5332320"/>
            <a:ext cx="1726920" cy="1274760"/>
            <a:chOff x="7093080" y="5332320"/>
            <a:chExt cx="1726920" cy="127476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7093080" y="5332320"/>
              <a:ext cx="172692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578000" y="61848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centar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ŽNJA DŽIPOVIMA U HATT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Hatta je 220 godina staro selo u planinama Haja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Avanturistička vožnja džipovima uključuje prijelaz preko isušenih riječnih korita, vožnju kroz planinska naselja i zaustavljanje radi razgledavanja povijesnih znamenitosti te kupanja u jednom od poplavljenih korita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RAZG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Džamija Jumeira - četvrt Bastakiya - Dubai muzej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vožnja tradicionalnim brodićem abra preko prirodnog tjesnaca (Dubai Creek) u dio grada pod nazivom Deir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ZLET U HAT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220 godina staro selo u planinama Hajar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vožnja stjenovitim terenom i uživanje u prekrasnom planinskom krajobrazu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razgledavanje suhih riječnih korita koja poplavljuju tijekom zimskih mjeseci i obilnih kiša u planinama Hajar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zaustavljanje kraj jednog od poplavljenih riječnih korita te mogućnost kupanja u rijeci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Posjet portugalskoj tvrđavi Hatta, koja potječe iz 16. stoljeća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36000" y="5516640"/>
            <a:ext cx="1266480" cy="90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L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ljeta su vrlo topla i vlažna,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period od listopada do travnja karakteriziraju nešto niže temperature i niska vlažnost zraka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92929"/>
                </a:solidFill>
                <a:latin typeface="Arial"/>
              </a:rPr>
              <a:t>Temperatura mora kreće se od 26-29°C. Kiši rijetko, uglavnom tijekom zimskih mjesec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77080" y="5229360"/>
            <a:ext cx="135252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MJEŠT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4:30:20Z</dcterms:created>
  <dc:creator>Marina Petrovska</dc:creator>
  <dc:description/>
  <dc:language>en-US</dc:language>
  <cp:lastModifiedBy>Lidija</cp:lastModifiedBy>
  <dcterms:modified xsi:type="dcterms:W3CDTF">2009-02-05T20:28:00Z</dcterms:modified>
  <cp:revision>13</cp:revision>
  <dc:subject/>
  <dc:title>DUBAI</dc:title>
</cp:coreProperties>
</file>