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ECF-D00C-4811-BFF4-01B39C6F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4D9-7279-4EE4-AE70-36DAAB61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3B9-5991-4629-B1D4-6190D283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DCC-8B4A-42DE-8CC0-F9E1A628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CC6-7BA2-4784-9E17-1450ADDA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083-C0C0-45A0-85FC-781AD451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6D6-871C-4BDD-AE6C-093B8094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63E-C6D9-4355-B280-31D9101A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B56-1976-4143-B18F-3F1BE2AE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A28-B958-4C83-A409-A20CDF3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84E-F7C8-482A-8350-487D70C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092-95A6-403B-8198-6298118B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E497-BA3D-4D80-A240-C3F1287E2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19640" cy="32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30607" b="0"/>
          <a:stretch/>
        </p:blipFill>
        <p:spPr>
          <a:xfrm>
            <a:off x="1547640" y="2276640"/>
            <a:ext cx="5977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4:57:05Z</dcterms:created>
  <dc:creator>Marina Petrovska</dc:creator>
  <dc:description/>
  <dc:language>en-US</dc:language>
  <cp:lastModifiedBy>Marina Petrovska</cp:lastModifiedBy>
  <dcterms:modified xsi:type="dcterms:W3CDTF">2006-03-01T15:00:08Z</dcterms:modified>
  <cp:revision>3</cp:revision>
  <dc:subject/>
  <dc:title>Slajd 1</dc:title>
</cp:coreProperties>
</file>